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6BE37-AF62-4B1F-A966-15B10C23F0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79EB8-3D41-4E32-9779-841860D6A10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6" name="PlaceHolder 1"/>
          <p:cNvSpPr>
            <a:spLocks noGrp="1"/>
          </p:cNvSpPr>
          <p:nvPr>
            <p:ph type="sldImg"/>
          </p:nvPr>
        </p:nvSpPr>
        <p:spPr>
          <a:xfrm>
            <a:off x="1371600" y="763560"/>
            <a:ext cx="5029200" cy="3772080"/>
          </a:xfrm>
          <a:prstGeom prst="rect">
            <a:avLst/>
          </a:prstGeom>
          <a:ln w="0">
            <a:noFill/>
          </a:ln>
        </p:spPr>
      </p:sp>
      <p:sp>
        <p:nvSpPr>
          <p:cNvPr id="7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882EA-AD7F-479A-8E0C-CD55EBF26D4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 name="PlaceHolder 1"/>
          <p:cNvSpPr>
            <a:spLocks noGrp="1"/>
          </p:cNvSpPr>
          <p:nvPr>
            <p:ph type="sldImg"/>
          </p:nvPr>
        </p:nvSpPr>
        <p:spPr>
          <a:xfrm>
            <a:off x="1371600" y="763560"/>
            <a:ext cx="5029200" cy="3772080"/>
          </a:xfrm>
          <a:prstGeom prst="rect">
            <a:avLst/>
          </a:prstGeom>
          <a:ln w="0">
            <a:noFill/>
          </a:ln>
        </p:spPr>
      </p:sp>
      <p:sp>
        <p:nvSpPr>
          <p:cNvPr id="9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7C415-4AC5-4026-9CB4-56DCB77AAEA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0" name="PlaceHolder 1"/>
          <p:cNvSpPr>
            <a:spLocks noGrp="1"/>
          </p:cNvSpPr>
          <p:nvPr>
            <p:ph type="sldImg"/>
          </p:nvPr>
        </p:nvSpPr>
        <p:spPr>
          <a:xfrm>
            <a:off x="1371600" y="763560"/>
            <a:ext cx="5027760" cy="3770280"/>
          </a:xfrm>
          <a:prstGeom prst="rect">
            <a:avLst/>
          </a:prstGeom>
          <a:ln w="0">
            <a:noFill/>
          </a:ln>
        </p:spPr>
      </p:sp>
      <p:sp>
        <p:nvSpPr>
          <p:cNvPr id="101" name="PlaceHolder 2"/>
          <p:cNvSpPr>
            <a:spLocks noGrp="1"/>
          </p:cNvSpPr>
          <p:nvPr>
            <p:ph type="body"/>
          </p:nvPr>
        </p:nvSpPr>
        <p:spPr>
          <a:xfrm>
            <a:off x="777960" y="4776480"/>
            <a:ext cx="62164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79B6D-DAF5-448A-9D4E-C011E393583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 name="PlaceHolder 1"/>
          <p:cNvSpPr>
            <a:spLocks noGrp="1"/>
          </p:cNvSpPr>
          <p:nvPr>
            <p:ph type="sldImg"/>
          </p:nvPr>
        </p:nvSpPr>
        <p:spPr>
          <a:xfrm>
            <a:off x="1371600" y="763560"/>
            <a:ext cx="5029200" cy="3772080"/>
          </a:xfrm>
          <a:prstGeom prst="rect">
            <a:avLst/>
          </a:prstGeom>
          <a:ln w="0">
            <a:noFill/>
          </a:ln>
        </p:spPr>
      </p:sp>
      <p:sp>
        <p:nvSpPr>
          <p:cNvPr id="8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EC935-9485-497B-9666-000A03CD771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sldImg"/>
          </p:nvPr>
        </p:nvSpPr>
        <p:spPr>
          <a:xfrm>
            <a:off x="1371600" y="763560"/>
            <a:ext cx="5029200" cy="3772080"/>
          </a:xfrm>
          <a:prstGeom prst="rect">
            <a:avLst/>
          </a:prstGeom>
          <a:ln w="0">
            <a:noFill/>
          </a:ln>
        </p:spPr>
      </p:sp>
      <p:sp>
        <p:nvSpPr>
          <p:cNvPr id="83"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72A8AA-6991-4218-86A0-9E11CB7866A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5" name="PlaceHolder 1"/>
          <p:cNvSpPr>
            <a:spLocks noGrp="1"/>
          </p:cNvSpPr>
          <p:nvPr>
            <p:ph type="sldImg"/>
          </p:nvPr>
        </p:nvSpPr>
        <p:spPr>
          <a:xfrm>
            <a:off x="1371600" y="763560"/>
            <a:ext cx="5029200" cy="3772080"/>
          </a:xfrm>
          <a:prstGeom prst="rect">
            <a:avLst/>
          </a:prstGeom>
          <a:ln w="0">
            <a:noFill/>
          </a:ln>
        </p:spPr>
      </p:sp>
      <p:sp>
        <p:nvSpPr>
          <p:cNvPr id="86"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ACBC32-C63F-4019-905E-71A54353E54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8" name="PlaceHolder 1"/>
          <p:cNvSpPr>
            <a:spLocks noGrp="1"/>
          </p:cNvSpPr>
          <p:nvPr>
            <p:ph type="sldImg"/>
          </p:nvPr>
        </p:nvSpPr>
        <p:spPr>
          <a:xfrm>
            <a:off x="1371600" y="763560"/>
            <a:ext cx="5029200" cy="3772080"/>
          </a:xfrm>
          <a:prstGeom prst="rect">
            <a:avLst/>
          </a:prstGeom>
          <a:ln w="0">
            <a:noFill/>
          </a:ln>
        </p:spPr>
      </p:sp>
      <p:sp>
        <p:nvSpPr>
          <p:cNvPr id="89"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CC72A-7276-4C5E-9A73-B2F357DDA5E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 name="PlaceHolder 1"/>
          <p:cNvSpPr>
            <a:spLocks noGrp="1"/>
          </p:cNvSpPr>
          <p:nvPr>
            <p:ph type="sldImg"/>
          </p:nvPr>
        </p:nvSpPr>
        <p:spPr>
          <a:xfrm>
            <a:off x="1371600" y="763560"/>
            <a:ext cx="5029200" cy="3772080"/>
          </a:xfrm>
          <a:prstGeom prst="rect">
            <a:avLst/>
          </a:prstGeom>
          <a:ln w="0">
            <a:noFill/>
          </a:ln>
        </p:spPr>
      </p:sp>
      <p:sp>
        <p:nvSpPr>
          <p:cNvPr id="9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EC0368-8163-4EC2-88A8-B339304BE04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 name="PlaceHolder 1"/>
          <p:cNvSpPr>
            <a:spLocks noGrp="1"/>
          </p:cNvSpPr>
          <p:nvPr>
            <p:ph type="sldImg"/>
          </p:nvPr>
        </p:nvSpPr>
        <p:spPr>
          <a:xfrm>
            <a:off x="1371600" y="763560"/>
            <a:ext cx="5029200" cy="3772080"/>
          </a:xfrm>
          <a:prstGeom prst="rect">
            <a:avLst/>
          </a:prstGeom>
          <a:ln w="0">
            <a:noFill/>
          </a:ln>
        </p:spPr>
      </p:sp>
      <p:sp>
        <p:nvSpPr>
          <p:cNvPr id="9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FB0AF-8F35-4FF1-8D54-F317140F7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CA5FD-BB9D-4C0C-A643-A90E04B1B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23255-228B-43BC-8347-820BFBC79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48D72-2AD5-4A47-9651-2E0861D76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2F161-9C66-478C-AFC2-0ED688664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05500-25E8-4570-8BA2-9A181E4BA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CB1E6-F868-4BDF-BB36-7F6FAD89B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577E6-9ABE-4C80-B2C5-4DBFADED6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C48B5-B326-420F-8601-2E06B8893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27EB-A3C3-4FC0-98EA-B9A7CF026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A23FB-94CF-4A73-8A9E-7AA4BB2D9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56230-F47E-423A-9A76-7F7528B25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8C257-116B-4D47-A291-AAFA4FC3ABF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2920" y="1768320"/>
            <a:ext cx="9070920" cy="4989600"/>
          </a:xfrm>
          <a:prstGeom prst="rect">
            <a:avLst/>
          </a:prstGeom>
          <a:noFill/>
          <a:ln w="0">
            <a:noFill/>
          </a:ln>
        </p:spPr>
        <p:txBody>
          <a:bodyPr lIns="0" rIns="0" tIns="35280" bIns="0" anchor="ctr">
            <a:noAutofit/>
          </a:bodyPr>
          <a:p>
            <a:pPr marL="343080" indent="-33984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TimesNewRomanPSMT"/>
                <a:ea typeface="TimesNewRomanPSMT"/>
              </a:rPr>
              <a:t>In 1914, the First World War began. One side (Germany, Austria-Hungary, and the Ottoman Empire) fought the other (Russia, France, Great Britain, and later the United States), in a war that would ultimately lead to the death of roughly 20 million people (including soldiers and civilians) and the collapse of four empires.</a:t>
            </a:r>
            <a:endParaRPr b="0" lang="en-US" sz="4000" spc="-1" strike="noStrike">
              <a:solidFill>
                <a:srgbClr val="000000"/>
              </a:solidFill>
              <a:latin typeface="Arial"/>
            </a:endParaRPr>
          </a:p>
        </p:txBody>
      </p:sp>
      <p:sp>
        <p:nvSpPr>
          <p:cNvPr id="51" name="PlaceHolder 2"/>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1</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vent 10</a:t>
            </a:r>
            <a:endParaRPr b="0" lang="en-US" sz="4400" spc="-1" strike="noStrike">
              <a:solidFill>
                <a:srgbClr val="000000"/>
              </a:solidFill>
              <a:latin typeface="Arial"/>
            </a:endParaRPr>
          </a:p>
        </p:txBody>
      </p:sp>
      <p:sp>
        <p:nvSpPr>
          <p:cNvPr id="69" name=""/>
          <p:cNvSpPr txBox="1"/>
          <p:nvPr/>
        </p:nvSpPr>
        <p:spPr>
          <a:xfrm>
            <a:off x="503280" y="1767960"/>
            <a:ext cx="9337680" cy="4984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In 1989, after a 73-year period of total control, the Communist Party stepped out of power in the Soviet Union.  Two years later, the Soviet Union officially dissolved.  Most of the former Soviet republics, including Russia, as well as the former Communist states in Eastern Europe adopted Western-style capitalist economies.</a:t>
            </a:r>
            <a:endParaRPr b="0" lang="en-US" sz="36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vent 11</a:t>
            </a:r>
            <a:endParaRPr b="0" lang="en-US" sz="4400" spc="-1" strike="noStrike">
              <a:solidFill>
                <a:srgbClr val="000000"/>
              </a:solidFill>
              <a:latin typeface="Arial"/>
            </a:endParaRPr>
          </a:p>
        </p:txBody>
      </p:sp>
      <p:sp>
        <p:nvSpPr>
          <p:cNvPr id="71" name=""/>
          <p:cNvSpPr txBox="1"/>
          <p:nvPr/>
        </p:nvSpPr>
        <p:spPr>
          <a:xfrm>
            <a:off x="503280" y="1767960"/>
            <a:ext cx="9066240" cy="4984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In 1994, Nelson Mandela is elected president of South Africa.  Mandela, a black South African, had previously served a 27-year prison sentence for his opposition to the apartheid policies of the white supremacist South African government.  Apartheid, a system of strict racial separation, had been the governing system in South Africa since 1948.</a:t>
            </a:r>
            <a:endParaRPr b="0" lang="en-US" sz="36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flection Questions</a:t>
            </a:r>
            <a:endParaRPr b="0" lang="en-US" sz="4400" spc="-1" strike="noStrike">
              <a:solidFill>
                <a:srgbClr val="000000"/>
              </a:solidFill>
              <a:latin typeface="Arial"/>
            </a:endParaRPr>
          </a:p>
        </p:txBody>
      </p:sp>
      <p:sp>
        <p:nvSpPr>
          <p:cNvPr id="73" name="PlaceHolder 2"/>
          <p:cNvSpPr>
            <a:spLocks noGrp="1"/>
          </p:cNvSpPr>
          <p:nvPr>
            <p:ph/>
          </p:nvPr>
        </p:nvSpPr>
        <p:spPr>
          <a:xfrm>
            <a:off x="502920" y="1767960"/>
            <a:ext cx="9070920" cy="4930920"/>
          </a:xfrm>
          <a:prstGeom prst="rect">
            <a:avLst/>
          </a:prstGeom>
          <a:noFill/>
          <a:ln w="0">
            <a:noFill/>
          </a:ln>
        </p:spPr>
        <p:txBody>
          <a:bodyPr lIns="0" rIns="0" tIns="35280" bIns="0" anchor="t">
            <a:normAutofit fontScale="89000"/>
          </a:bodyPr>
          <a:p>
            <a:pPr marL="305280" indent="0">
              <a:lnSpc>
                <a:spcPct val="93000"/>
              </a:lnSpc>
              <a:spcAft>
                <a:spcPts val="1426"/>
              </a:spcAft>
              <a:buNone/>
              <a:tabLst>
                <a:tab algn="l" pos="0"/>
                <a:tab algn="l" pos="343080"/>
                <a:tab algn="l" pos="352440"/>
                <a:tab algn="l" pos="708120"/>
                <a:tab algn="l" pos="1062000"/>
                <a:tab algn="l" pos="1417680"/>
                <a:tab algn="l" pos="1774800"/>
                <a:tab algn="l" pos="2130480"/>
                <a:tab algn="l" pos="2484360"/>
                <a:tab algn="l" pos="2840040"/>
                <a:tab algn="l" pos="3197160"/>
                <a:tab algn="l" pos="3552840"/>
                <a:tab algn="l" pos="3908520"/>
                <a:tab algn="l" pos="4262400"/>
                <a:tab algn="l" pos="4340160"/>
                <a:tab algn="l" pos="5064120"/>
                <a:tab algn="l" pos="5788080"/>
                <a:tab algn="l" pos="6515280"/>
                <a:tab algn="l" pos="7236000"/>
                <a:tab algn="l" pos="7959600"/>
                <a:tab algn="l" pos="8683560"/>
                <a:tab algn="l" pos="9140760"/>
                <a:tab algn="l" pos="9597960"/>
                <a:tab algn="l" pos="10055160"/>
                <a:tab algn="l" pos="10512360"/>
                <a:tab algn="l" pos="10514160"/>
                <a:tab algn="l" pos="10515600"/>
              </a:tabLst>
            </a:pPr>
            <a:r>
              <a:rPr b="0" lang="en-US" sz="4000" spc="-1" strike="noStrike">
                <a:solidFill>
                  <a:srgbClr val="000000"/>
                </a:solidFill>
                <a:latin typeface="TimesNewRomanPSMT"/>
                <a:ea typeface="TimesNewRomanPSMT"/>
              </a:rPr>
              <a:t>1.</a:t>
            </a:r>
            <a:r>
              <a:rPr b="0" lang="en-US" sz="1200" spc="-1" strike="noStrike">
                <a:solidFill>
                  <a:srgbClr val="000000"/>
                </a:solidFill>
                <a:latin typeface="TimesNewRomanPSMT"/>
                <a:ea typeface="TimesNewRomanPSMT"/>
              </a:rPr>
              <a:t>	</a:t>
            </a:r>
            <a:r>
              <a:rPr b="0" lang="en-US" sz="4000" spc="-1" strike="noStrike">
                <a:solidFill>
                  <a:srgbClr val="000000"/>
                </a:solidFill>
                <a:latin typeface="TimesNewRomanPSMT"/>
                <a:ea typeface="TimesNewRomanPSMT"/>
              </a:rPr>
              <a:t>Which of the events we looked at today was the most positive to you from the perspective of your role? Why?</a:t>
            </a:r>
            <a:endParaRPr b="0" lang="en-US" sz="4000" spc="-1" strike="noStrike">
              <a:solidFill>
                <a:srgbClr val="000000"/>
              </a:solidFill>
              <a:latin typeface="Arial"/>
            </a:endParaRPr>
          </a:p>
          <a:p>
            <a:pPr marL="305280" indent="0">
              <a:lnSpc>
                <a:spcPct val="93000"/>
              </a:lnSpc>
              <a:spcAft>
                <a:spcPts val="1426"/>
              </a:spcAft>
              <a:buNone/>
              <a:tabLst>
                <a:tab algn="l" pos="0"/>
                <a:tab algn="l" pos="343080"/>
                <a:tab algn="l" pos="352440"/>
                <a:tab algn="l" pos="708120"/>
                <a:tab algn="l" pos="1062000"/>
                <a:tab algn="l" pos="1417680"/>
                <a:tab algn="l" pos="1774800"/>
                <a:tab algn="l" pos="2130480"/>
                <a:tab algn="l" pos="2484360"/>
                <a:tab algn="l" pos="2840040"/>
                <a:tab algn="l" pos="3197160"/>
                <a:tab algn="l" pos="3552840"/>
                <a:tab algn="l" pos="3908520"/>
                <a:tab algn="l" pos="4262400"/>
                <a:tab algn="l" pos="4340160"/>
                <a:tab algn="l" pos="5064120"/>
                <a:tab algn="l" pos="5788080"/>
                <a:tab algn="l" pos="6515280"/>
                <a:tab algn="l" pos="7236000"/>
                <a:tab algn="l" pos="7959600"/>
                <a:tab algn="l" pos="8683560"/>
                <a:tab algn="l" pos="9140760"/>
                <a:tab algn="l" pos="9597960"/>
                <a:tab algn="l" pos="10055160"/>
                <a:tab algn="l" pos="10512360"/>
                <a:tab algn="l" pos="10514160"/>
                <a:tab algn="l" pos="10515600"/>
              </a:tabLst>
            </a:pPr>
            <a:endParaRPr b="0" lang="en-US" sz="4000" spc="-1" strike="noStrike">
              <a:solidFill>
                <a:srgbClr val="000000"/>
              </a:solidFill>
              <a:latin typeface="Arial"/>
            </a:endParaRPr>
          </a:p>
          <a:p>
            <a:pPr marL="305280" indent="0">
              <a:lnSpc>
                <a:spcPct val="93000"/>
              </a:lnSpc>
              <a:spcAft>
                <a:spcPts val="1426"/>
              </a:spcAft>
              <a:buNone/>
              <a:tabLst>
                <a:tab algn="l" pos="0"/>
                <a:tab algn="l" pos="343080"/>
                <a:tab algn="l" pos="352440"/>
                <a:tab algn="l" pos="708120"/>
                <a:tab algn="l" pos="1062000"/>
                <a:tab algn="l" pos="1417680"/>
                <a:tab algn="l" pos="1774800"/>
                <a:tab algn="l" pos="2130480"/>
                <a:tab algn="l" pos="2484360"/>
                <a:tab algn="l" pos="2840040"/>
                <a:tab algn="l" pos="3197160"/>
                <a:tab algn="l" pos="3552840"/>
                <a:tab algn="l" pos="3908520"/>
                <a:tab algn="l" pos="4262400"/>
                <a:tab algn="l" pos="4340160"/>
                <a:tab algn="l" pos="5064120"/>
                <a:tab algn="l" pos="5788080"/>
                <a:tab algn="l" pos="6515280"/>
                <a:tab algn="l" pos="7236000"/>
                <a:tab algn="l" pos="7959600"/>
                <a:tab algn="l" pos="8683560"/>
                <a:tab algn="l" pos="9140760"/>
                <a:tab algn="l" pos="9597960"/>
                <a:tab algn="l" pos="10055160"/>
                <a:tab algn="l" pos="10512360"/>
                <a:tab algn="l" pos="10514160"/>
                <a:tab algn="l" pos="10515600"/>
              </a:tabLst>
            </a:pPr>
            <a:r>
              <a:rPr b="0" lang="en-US" sz="4000" spc="-1" strike="noStrike">
                <a:solidFill>
                  <a:srgbClr val="000000"/>
                </a:solidFill>
                <a:latin typeface="TimesNewRomanPSMT"/>
                <a:ea typeface="TimesNewRomanPSMT"/>
              </a:rPr>
              <a:t>2.</a:t>
            </a:r>
            <a:r>
              <a:rPr b="0" lang="en-US" sz="4000" spc="-1" strike="noStrike">
                <a:solidFill>
                  <a:srgbClr val="000000"/>
                </a:solidFill>
                <a:latin typeface="TimesNewRomanPSMT"/>
                <a:ea typeface="TimesNewRomanPSMT"/>
              </a:rPr>
              <a:t>	</a:t>
            </a:r>
            <a:r>
              <a:rPr b="0" lang="en-US" sz="4000" spc="-1" strike="noStrike">
                <a:solidFill>
                  <a:srgbClr val="000000"/>
                </a:solidFill>
                <a:latin typeface="TimesNewRomanPSMT"/>
                <a:ea typeface="TimesNewRomanPSMT"/>
              </a:rPr>
              <a:t>Which of the other three roles came closest to yours in deciding what was positive and what was negative? What did you have in common with that other role?</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399960" y="147600"/>
            <a:ext cx="9069480" cy="67597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1914, the First World War began. One side (Germany, Austria-Hungary, and the Ottoman empire) fought the other (Russia, France, Great Britain, and later the United States), in a war that would ultimately lead to the death of roughly 14 million soldiers and the collapse of four empires.</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1917, the Russian empire collapsed. In its place arose the Union of Soviet Socialist Republics, a one-party, Communist state. Lenin, the first leader of the Soviet Union, saw the Russian Revolution as the first step toward the destruction of capitalism and imperialism worldwide.</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The Versailles Conference of 1919 ended the First World War. As part of the settlement, Britain and France divided up Germany and the Ottoman Empire’s colonial possessions between themselves in a system of “mandates” set up through the League of Nations.</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1929, the Great Depression began. The Depression was the greatest crisis in the history of modern capitalism. However, at the same time, the Soviet Union’s socialist economy grew. Some governments in capitalist societies responded by vastly expanding the role of government in the economy to spur economic growth.</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the 1930s, Japan expanded its colonial possessions in Asia, beginning with the conquest of Manchuria, south through coastal China, and ultimately to the Dutch East Indies, now known as Indonesia.</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1939, the Second World War began in Europe. Over its course, approximately 60 million people died, the majority civilians. After 6 years of fighting that spanned continents and oceans, the Allies (led by the United States, the Soviet Union, Great Britain and its commonwealth states) defeated the Axis Powers (Germany, Italy, and Japan).  </a:t>
            </a:r>
            <a:endParaRPr b="0" lang="en-US" sz="12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At the close of WWII in 1945, two conferences took place at the urging of the United States to establish the post-war order. The first was the Bretton Woods conference, in New Hampshire, to establish rules for post-war trade and monetary exchange. The second was the 1945 United Nations conference in San Francisco, California, to establish a post-war diplomatic order.</a:t>
            </a: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NewRomanPSMT"/>
              </a:rPr>
              <a:t>In 1947, after a long but primarily non-violent struggle, India gained its independence from the British empire, adopting its constitution in 1950. Following its independence, India led the ‘non-aligned’ world, seeking to collaborate with both capitalist and socialist countries</a:t>
            </a:r>
            <a:r>
              <a:rPr b="0" lang="en-US" sz="1600" spc="-1" strike="noStrike">
                <a:solidFill>
                  <a:srgbClr val="000000"/>
                </a:solidFill>
                <a:latin typeface="TimesNewRomanPSMT"/>
                <a:ea typeface="TimesNewRomanPSMT"/>
              </a:rPr>
              <a: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2</a:t>
            </a:r>
            <a:endParaRPr b="0" lang="en-US" sz="4400" spc="-1" strike="noStrike">
              <a:solidFill>
                <a:srgbClr val="000000"/>
              </a:solidFill>
              <a:latin typeface="Arial"/>
            </a:endParaRPr>
          </a:p>
        </p:txBody>
      </p:sp>
      <p:sp>
        <p:nvSpPr>
          <p:cNvPr id="53" name="PlaceHolder 2"/>
          <p:cNvSpPr>
            <a:spLocks noGrp="1"/>
          </p:cNvSpPr>
          <p:nvPr>
            <p:ph type="subTitle"/>
          </p:nvPr>
        </p:nvSpPr>
        <p:spPr>
          <a:xfrm>
            <a:off x="503280" y="1814040"/>
            <a:ext cx="9261360" cy="4899240"/>
          </a:xfrm>
          <a:prstGeom prst="rect">
            <a:avLst/>
          </a:prstGeom>
          <a:noFill/>
          <a:ln w="0">
            <a:noFill/>
          </a:ln>
        </p:spPr>
        <p:txBody>
          <a:bodyPr lIns="0" rIns="0" tIns="352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TimesNewRomanPSMT"/>
                <a:ea typeface="TimesNewRomanPSMT"/>
              </a:rPr>
              <a:t>In 1917, the Russian Empire collapsed. In its place arose the Union of Soviet Socialist Republics, a one-party, Communist state. Vladimir Lenin, the first leader of the Soviet Union, saw the Russian Revolution as the first step toward the destruction of capitalism and imperialism worldwide.</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3</a:t>
            </a:r>
            <a:endParaRPr b="0" lang="en-US" sz="4400" spc="-1" strike="noStrike">
              <a:solidFill>
                <a:srgbClr val="000000"/>
              </a:solidFill>
              <a:latin typeface="Arial"/>
            </a:endParaRPr>
          </a:p>
        </p:txBody>
      </p:sp>
      <p:sp>
        <p:nvSpPr>
          <p:cNvPr id="55" name="PlaceHolder 2"/>
          <p:cNvSpPr>
            <a:spLocks noGrp="1"/>
          </p:cNvSpPr>
          <p:nvPr>
            <p:ph type="subTitle"/>
          </p:nvPr>
        </p:nvSpPr>
        <p:spPr>
          <a:xfrm>
            <a:off x="502920" y="1814040"/>
            <a:ext cx="9070920" cy="4899240"/>
          </a:xfrm>
          <a:prstGeom prst="rect">
            <a:avLst/>
          </a:prstGeom>
          <a:noFill/>
          <a:ln w="0">
            <a:noFill/>
          </a:ln>
        </p:spPr>
        <p:txBody>
          <a:bodyPr lIns="0" rIns="0" tIns="352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TimesNewRomanPSMT"/>
                <a:ea typeface="TimesNewRomanPSMT"/>
              </a:rPr>
              <a:t>The Versailles Conference of 1919 ended the First World War. As part of the settlement, Britain and France divided up Germany and the Ottoman Empire’s colonial possessions between themselves in a system of “mandates” set up through the League of Nations.</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4</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814040"/>
            <a:ext cx="9070920" cy="4899240"/>
          </a:xfrm>
          <a:prstGeom prst="rect">
            <a:avLst/>
          </a:prstGeom>
          <a:noFill/>
          <a:ln w="0">
            <a:noFill/>
          </a:ln>
        </p:spPr>
        <p:txBody>
          <a:bodyPr lIns="0" rIns="0" tIns="352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000000"/>
                </a:solidFill>
                <a:latin typeface="TimesNewRomanPSMT"/>
                <a:ea typeface="TimesNewRomanPSMT"/>
              </a:rPr>
              <a:t>In 1929, the Great Depression began. The Depression was the greatest crisis in the history of modern capitalism. However, at the same time, the Soviet Union’s socialist economy grew. Some governments in capitalist societies responded by vastly expanding the role of government in the economy to spur economic growth.</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5</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388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TimesNewRomanPSMT"/>
                <a:ea typeface="TimesNewRomanPSMT"/>
              </a:rPr>
              <a:t>In the 1930s, Japan expanded its colonial possessions in Asia, beginning with the conquest of Manchuria (northern China), south through coastal China, and ultimately to the Dutch East Indies, now known as Indonesia.</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6</a:t>
            </a:r>
            <a:endParaRPr b="0" lang="en-US" sz="4400" spc="-1" strike="noStrike">
              <a:solidFill>
                <a:srgbClr val="000000"/>
              </a:solidFill>
              <a:latin typeface="Arial"/>
            </a:endParaRPr>
          </a:p>
        </p:txBody>
      </p:sp>
      <p:sp>
        <p:nvSpPr>
          <p:cNvPr id="61" name="PlaceHolder 2"/>
          <p:cNvSpPr>
            <a:spLocks noGrp="1"/>
          </p:cNvSpPr>
          <p:nvPr>
            <p:ph type="subTitle"/>
          </p:nvPr>
        </p:nvSpPr>
        <p:spPr>
          <a:xfrm>
            <a:off x="485640" y="1283760"/>
            <a:ext cx="9344160" cy="5643720"/>
          </a:xfrm>
          <a:prstGeom prst="rect">
            <a:avLst/>
          </a:prstGeom>
          <a:noFill/>
          <a:ln w="0">
            <a:noFill/>
          </a:ln>
        </p:spPr>
        <p:txBody>
          <a:bodyPr lIns="0" rIns="0" tIns="316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600" spc="-1" strike="noStrike">
                <a:solidFill>
                  <a:srgbClr val="000000"/>
                </a:solidFill>
                <a:latin typeface="Arial"/>
              </a:rPr>
              <a:t>In 1939, the Second World War began in Europe. Over its course, approximately 60 million people died, the majority civilians. After 6 years of fighting that spanned continents and oceans, the Allies (led by the United States, the Soviet Union, Great Britain and its commonwealth states) defeated the Axis Powers (Germany, Italy, and Japan).  </a:t>
            </a:r>
            <a:endParaRPr b="0" lang="en-US" sz="3600" spc="-1" strike="noStrike">
              <a:solidFill>
                <a:srgbClr val="000000"/>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vent 7</a:t>
            </a:r>
            <a:endParaRPr b="0" lang="en-US" sz="4400" spc="-1" strike="noStrike">
              <a:solidFill>
                <a:srgbClr val="000000"/>
              </a:solidFill>
              <a:latin typeface="Arial"/>
            </a:endParaRPr>
          </a:p>
        </p:txBody>
      </p:sp>
      <p:sp>
        <p:nvSpPr>
          <p:cNvPr id="63" name=""/>
          <p:cNvSpPr txBox="1"/>
          <p:nvPr/>
        </p:nvSpPr>
        <p:spPr>
          <a:xfrm>
            <a:off x="503280" y="1767960"/>
            <a:ext cx="9066240" cy="4984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the close of WWII in 1945, two conferences took place at the urging of the United States to establish the post-war order. The first was the Bretton Woods conference, in New Hampshire, to establish rules for post-war trade and monetary exchange. The second was the 1945 United Nations conference in San Francisco, California, to establish a post-war diplomatic order.</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vent 8</a:t>
            </a:r>
            <a:endParaRPr b="0" lang="en-US" sz="4400" spc="-1" strike="noStrike">
              <a:solidFill>
                <a:srgbClr val="000000"/>
              </a:solidFill>
              <a:latin typeface="Arial"/>
            </a:endParaRPr>
          </a:p>
        </p:txBody>
      </p:sp>
      <p:sp>
        <p:nvSpPr>
          <p:cNvPr id="65" name="PlaceHolder 2"/>
          <p:cNvSpPr>
            <a:spLocks noGrp="1"/>
          </p:cNvSpPr>
          <p:nvPr>
            <p:ph type="subTitle"/>
          </p:nvPr>
        </p:nvSpPr>
        <p:spPr>
          <a:xfrm>
            <a:off x="502920" y="1750680"/>
            <a:ext cx="9070920" cy="5024520"/>
          </a:xfrm>
          <a:prstGeom prst="rect">
            <a:avLst/>
          </a:prstGeom>
          <a:noFill/>
          <a:ln w="0">
            <a:noFill/>
          </a:ln>
        </p:spPr>
        <p:txBody>
          <a:bodyPr lIns="0" rIns="0" tIns="388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TimesNewRomanPSMT"/>
                <a:ea typeface="TimesNewRomanPSMT"/>
              </a:rPr>
              <a:t>In 1947, after a long but primarily non-violent struggle, India gained its independence from the British empire, adopting its constitution in 1950. Following its independence, India led the ‘non-aligned’ world, seeking to collaborate with both capitalist and socialist countries.</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vent 9</a:t>
            </a:r>
            <a:endParaRPr b="0" lang="en-US" sz="4400" spc="-1" strike="noStrike">
              <a:solidFill>
                <a:srgbClr val="000000"/>
              </a:solidFill>
              <a:latin typeface="Arial"/>
            </a:endParaRPr>
          </a:p>
        </p:txBody>
      </p:sp>
      <p:sp>
        <p:nvSpPr>
          <p:cNvPr id="67" name=""/>
          <p:cNvSpPr txBox="1"/>
          <p:nvPr/>
        </p:nvSpPr>
        <p:spPr>
          <a:xfrm>
            <a:off x="503280" y="1767960"/>
            <a:ext cx="9066240" cy="4984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tween 1949 and 1959, Communist revolutions established socialist, one-party governments in China, North Korea, North Vietnam, and Cuba.  Despite military intervention by the United States, Communists in all four of those countries maintained and (in Vietnam) expanded their control.  During this same period, the Soviet Union extended their political and military control across Eastern Europe.</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00:38:33Z</dcterms:created>
  <dc:creator/>
  <dc:description/>
  <dc:language>en-US</dc:language>
  <cp:lastModifiedBy>Dominic Lambek</cp:lastModifiedBy>
  <dcterms:modified xsi:type="dcterms:W3CDTF">2013-01-14T20:07:04Z</dcterms:modified>
  <cp:revision>4</cp:revision>
  <dc:subject/>
  <dc:title>Event 1</dc:title>
</cp:coreProperties>
</file>